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D8253-08C5-4FD8-A801-465131229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7081E-C196-4AE0-A09A-32857A81F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0FC82-ABEC-4095-AB82-7DE6A94B2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BAF93-443B-4686-A798-98C990CCF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150EA-7748-467A-8BC2-6A4C48469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DEEEE-235C-40C3-A1F7-2CBEE5CA8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5E94D-BA8F-4C3F-9458-0462453D7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779D0-0CBD-48AD-AF4A-0E7ED44F3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1E792-31CE-42A5-95BB-FC938E512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A06F0-1277-4598-9954-F0AAE3483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0F60F-3569-4D8A-AD21-1E446E966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01ED6-CEC6-45D1-A787-B4C03BE9F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70978-66B7-4D79-A1A5-E78AAFFCDC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 Trend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Village and Globaliz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trade and competi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oted in technological grow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polic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ment rates fell 5,500 August, 201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il sales decline July, 201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ation rates are rising</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400" spc="-1" strike="noStrike">
                <a:solidFill>
                  <a:srgbClr val="000000"/>
                </a:solidFill>
                <a:latin typeface="Arial"/>
              </a:rPr>
              <a:t>* RBC</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mographic Trends</a:t>
            </a:r>
            <a:endParaRPr b="0" lang="en-US" sz="4000" spc="-1" strike="noStrike">
              <a:solidFill>
                <a:srgbClr val="000000"/>
              </a:solidFill>
              <a:latin typeface="Arial"/>
            </a:endParaRPr>
          </a:p>
        </p:txBody>
      </p:sp>
      <p:sp>
        <p:nvSpPr>
          <p:cNvPr id="52" name="PlaceHolder 2"/>
          <p:cNvSpPr>
            <a:spLocks noGrp="1"/>
          </p:cNvSpPr>
          <p:nvPr>
            <p:ph/>
          </p:nvPr>
        </p:nvSpPr>
        <p:spPr>
          <a:xfrm>
            <a:off x="395280" y="981000"/>
            <a:ext cx="8291520" cy="5145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y of human popul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ario’s population means growth over the next 26 years, rising 34.4 per cent, or over 4.5 million, from an estimated 13.2 million on July 1, 2010 to 17.7 million by July 1, 2036.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migration is projected to account for 68 per cent of all population growth in the province over the 2010–2036 period, with natural increase accounting for the remaining 32 per c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seniors aged 65 and over is projected to more than double from 1.8 million, or 13.9 per cent of population, in 2010 to 4.1 million, or 23.4 per cent, by 2036.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an Income --- Major Occupations</a:t>
            </a:r>
            <a:endParaRPr b="0" lang="en-US" sz="3600" spc="-1" strike="noStrike">
              <a:solidFill>
                <a:srgbClr val="000000"/>
              </a:solidFill>
              <a:latin typeface="Arial"/>
            </a:endParaRPr>
          </a:p>
        </p:txBody>
      </p:sp>
      <p:sp>
        <p:nvSpPr>
          <p:cNvPr id="4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verage wages 2010 - 2011 for select occupations in Toronto and suburbs: WowJobs.co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anager $89,784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r $82,163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Analyst $65,467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ior Financial Analyst $75,025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ve Director $67,833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ve Assistant $45,194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ant $53,158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Assistant $34,025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Service Representative $29,674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ionist $26,3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274680"/>
            <a:ext cx="8229600" cy="1143000"/>
          </a:xfrm>
          <a:prstGeom prst="rect">
            <a:avLst/>
          </a:prstGeom>
          <a:ln w="0">
            <a:noFill/>
          </a:ln>
        </p:spPr>
      </p:pic>
      <p:sp>
        <p:nvSpPr>
          <p:cNvPr id="44" name="PlaceHolder 1"/>
          <p:cNvSpPr>
            <a:spLocks noGrp="1"/>
          </p:cNvSpPr>
          <p:nvPr>
            <p:ph/>
          </p:nvPr>
        </p:nvSpPr>
        <p:spPr>
          <a:xfrm>
            <a:off x="250920" y="1600200"/>
            <a:ext cx="864216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 pattern or tendency or habit in soci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Trends ---    IT Special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Trends   ---          Think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Trends   ---    Global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graphic Trends --- Immig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ion = decrease human labou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easily sha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o knowledge based econom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academic expect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pace life / leis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will double every 35 days in 202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competi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Trends</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ttern, style, or habit of the society in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ion from city core to suburb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sts and University professors more likely to live downt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ign nationals working in Can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hood is beginning later in life</a:t>
            </a:r>
            <a:endParaRPr b="0" lang="en-US" sz="3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s are employed            </a:t>
            </a:r>
            <a:r>
              <a:rPr b="0" lang="en-US" sz="1600" spc="-1" strike="noStrike">
                <a:solidFill>
                  <a:srgbClr val="000000"/>
                </a:solidFill>
                <a:latin typeface="Arial"/>
              </a:rPr>
              <a:t>*Stats Cana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7T01:45:17Z</dcterms:created>
  <dc:creator>meridyth taylor</dc:creator>
  <dc:description/>
  <dc:language>en-US</dc:language>
  <cp:lastModifiedBy>meridyth taylor</cp:lastModifiedBy>
  <dcterms:modified xsi:type="dcterms:W3CDTF">2011-09-27T02:41:10Z</dcterms:modified>
  <cp:revision>3</cp:revision>
  <dc:subject/>
  <dc:title>Slide 1</dc:title>
</cp:coreProperties>
</file>